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99D-6574-4B91-A92E-C0536119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321-570B-44B7-9244-B892C49BF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DD9-193E-492A-801C-176720E1D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B3B-E1B0-485C-82EB-EE455E60A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9D0-E44E-419D-9C6C-97E245A58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F67-8692-4B68-A405-6FE2E84A9D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176-F5A1-4958-801E-D704D36F2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D5DB-F2F3-473C-9651-6B595A2A65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E9F-C307-467C-B7B6-4102BF516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BD6-CCF9-4BE4-BD5E-097D77538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814-4605-4AEE-AE1B-0BF6E4ACD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1E6-95F4-4DB4-AFA8-6376A71B0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771-2AC3-4F79-92FF-E662DA43A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70FB-FC83-4269-B514-0FF67CFA08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2D66-3619-47F4-AEE5-BFD53AD2B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8F1-5BD2-4C54-B9E3-B18F86503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C93-52AC-4E03-9ED5-E93BEB8B0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666A-EEAD-40E3-AFF1-EB3F8EBA2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F989-4C4A-411C-82E4-57BEA2179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83D-6ECA-4C87-BC14-B8E28C8DC6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23E-2B3A-4B28-ADD4-A7F613DF2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82D-68B9-431F-909F-FB2D56207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49A-909B-402C-AAD5-4B8548C31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287-1F8C-4E15-912A-2272C1178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557E-D54F-4CDA-A227-2B3E06680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3CE8-D31D-4608-A558-8D5A440CF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9C4A-0FD8-4D25-8F6A-40D309311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A6C3-AB7D-493F-9A8C-3FCD78878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0CB-7B83-44BC-937D-42B3BFC40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2DF-589F-4405-9701-2E0321B36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981B-6E73-4EB7-9A0F-59B3F6BFF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050-3229-486F-BA87-FEE435229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7BF-2F8E-4AC7-9475-085FA4E3E9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249-B7F5-4D64-9290-21650F8C2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E21-CCD5-4553-8CB2-7A00E661D1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B1E-C478-4E17-84E6-4E43AA344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AFE-7EFC-4219-BBBC-86F04C4326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EDD-6CA2-4ACA-91C5-96978B6179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0326-67EF-4FFD-A671-571FCD7E5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74A-3F98-4604-A446-14455F476A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A888-5E78-4F91-9BB5-0D0F06FFD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222-03CE-4A02-B373-902602D3E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86A-BC7F-4E49-9CF7-F80DC66EE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898-D9DD-4F84-A63F-C5B3C1421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7B34-A55F-4F5E-B272-F2B518863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EFD-7C78-440C-BC33-A0FEBBBAD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0F6-14CB-44B9-9DBA-C1E281443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1446-B253-4561-AAB8-1C2AF6A906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BB6-E7B6-49F8-AC34-6721D49D8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577-0F63-4E5D-9091-211EEE5932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C9E-2A78-4EB0-B932-2F7A976B5F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9105-0729-4E5A-86E8-C22730C54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FD7-F7AD-46DB-83CB-ADE047F6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4B6-94C0-4DD3-A12D-5FC406A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81A-57EF-476B-BDE1-DCA276F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3A8-D3E7-457C-A693-2F8593A1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DB5-EBA8-4EE3-9E3F-0DE5EE7A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DFAC-8E8A-4F37-8FB2-55C8BEC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6F0-0F4F-4248-8410-5A8FCBC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4B0D-C015-451B-8271-41F707B3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1CD-FD83-4791-BCA4-15B0BE4C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5192-675A-4C50-8671-9E969A61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F4A8-6872-4DFF-B4CB-01560CD3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09C-6FA4-48DC-945F-F9A277C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523-7844-4275-BCEF-5860179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BD57-B030-4C09-91B1-30B633A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1F1-CB8F-4AAC-AF68-E0C521D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168-92AA-4D17-8865-E38D9E27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165-189E-41BC-862E-363BFAAF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4AB-13E6-4F92-B3E6-B4B4A894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D75-1A3D-47D1-8C5C-F26A5CAA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736-2C68-4FA1-8DBA-E40F802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C04-19FE-4024-88ED-1F931391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318-5DB9-45F2-98E7-3F9FD06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E1B-2737-4867-AF75-55434E2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E90-3B6F-4CE5-9065-6A315A1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EEB-E0E0-4196-A7F7-476B28926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691-FF9B-46C7-9317-A3770B7E0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1070280" y="1565280"/>
            <a:ext cx="9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38280" y="156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0600" y="16858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ato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448240" y="156384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atom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089840" y="1535040"/>
            <a:ext cx="12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imple Bin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89576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C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imple Bin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15920" y="31687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odium chlor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37:13Z</dcterms:created>
  <dc:creator>bmhs-delete</dc:creator>
  <dc:description/>
  <dc:language>en-US</dc:language>
  <cp:lastModifiedBy>bmhs-delete</cp:lastModifiedBy>
  <dcterms:modified xsi:type="dcterms:W3CDTF">2012-12-11T14:38:58Z</dcterms:modified>
  <cp:revision>1</cp:revision>
  <dc:subject/>
  <dc:title>Jeopardy</dc:title>
</cp:coreProperties>
</file>